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move the slide</a:t>
            </a:r>
            <a:endParaRPr b="0" lang="en-US" sz="4400" spc="-1" strike="noStrike">
              <a:solidFill>
                <a:srgbClr val="00295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DD8E-EEBC-4FEE-AD26-C25A616C4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470F-E2EF-4F3F-B367-6992F862C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1600-483E-40DE-805A-9F9E68980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7FA2-3778-421C-B019-440F78C61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E234-D6DE-4760-A39D-D26AEDE5D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2A5F-A5E4-4436-A719-916F83F29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2D76-FA04-4E5E-A764-D56339549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E3B3-0671-47E5-8DF3-469EEF079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CB30-BD47-46DD-B37B-B46A20AD2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C492-FC77-4095-8BA7-8821F876A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3EE2-D601-4C83-A49E-F11A778E8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6BE1-E6CA-42E5-B6E9-459C4D40A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DA42-06CD-4219-9EB9-413581B0A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8C44-97C1-4FD2-9E3C-3CA8DA5A4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9DDE-34DE-49E7-B153-EA787A784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56D9-468D-46FF-A3C8-ADB0332A5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this graph go to http://dq.cde.ca.gov/dataquest/ and select school level, CELDT test and submit. Then find your school and submit. This will show you a table with your site’s CELDT numbers. Now open the excel file from the EL wiki titled Site CELDT Chart. Then copy the numbers of students in each category into the table. Once you have finished with the 2008, change the year in the webpage for new data for 2007 and 2006. With all the data collected, highlight all the data in the spreadsheet and click Insert, Chart. Click Next at the first screen. Now change “Series In” from columns to rows and click next. Finally enter a “Chart Title” and a “Value (Y) Axis” title and click finish. This will paste the chart beneath the table. Cut and paste this into your PowerPoint. Resize it to fill the space and change the “Trends” to match your site’s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3814-3E58-4188-81B5-3E4579861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CD25-D0CF-4A8C-A985-FB067D5B3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B518-1761-4E7B-B8A4-F7A45D1CD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A10D-32DB-4F69-89F2-130884089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9FB7-5A9D-4CF6-A115-071D75EB5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DAC7-DCE2-4C71-9B42-57E78E9C0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FD03-2E9B-414F-BCB3-865C08B38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7351-879E-4CA4-A01A-BD9373383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FE02-CA7C-4A52-9517-477689F3F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2747-64E8-47FD-8D58-02EDA195A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1966-DB30-48FE-B9B3-175855474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4CA9-5159-4D6E-A136-D97836AEC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5BEB-D6D7-4168-84B5-53F2A710C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6BDF-C107-4E0E-89CD-C1A2A974B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FBE4-CAB3-4168-9D8D-6630897F0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431C-E01D-46E6-BE29-405F9F0EA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B1F8-669F-442E-B8EA-A67327F86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7888-CA67-45D5-AF4C-DFAA318D3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4C53-6CFA-4865-BF31-7EE168F4D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48F3-C718-45D7-A501-1AE460739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1387-AAEC-47CC-867B-4788A01CE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AD3BE-7856-4ED4-A645-980AC68CE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8"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5C453-E8F3-43CA-97FB-73FD7506F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1"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BDDC8-0D14-4F0D-BFB3-A85B4E1B7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6"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B87CB-BBC6-44D7-9688-D4E134FE4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69A18-C88B-461E-BD7F-DB34FA9E6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49"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1ACCF-054F-49B2-AE09-FECA2E741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1"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40B38-F009-4AB8-B3A8-07E371915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3"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9449C-3A96-4BFF-8625-CB00BBE3A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3FBE0-C706-43A9-B183-636F49FDD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7F691-93A1-43B8-A0F6-5240D40A4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8"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FD4CB-DD0C-461B-93A8-0D95A6541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85F3F-7A61-4EBE-8A09-959D5D3A9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2"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0BE95-8DBB-49D0-A6FD-481E4205B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49A3E-0D15-452D-BEDE-B61ACD210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0"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CDF45-EAF3-4462-91C6-9FEE6CBEB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3"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7E2A8-FF7B-495A-94A2-211818ED8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8"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028E5-14C1-44B5-BCBF-682245A50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9"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AE25-9399-4ADC-ADCA-B990A69E3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1"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EC259-9626-4AC3-A3DF-5356EB21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7D70B-8013-4119-9D4D-92AD6C1E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74B5-D66F-4AFF-9E03-1372E07D8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D88A-8CF6-4F85-8470-BD9285503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0"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F97E-7E5B-4DE6-A423-DB88CD36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4"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D5E5-7417-4941-ADD3-274B300EC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2"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057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4038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90AC-549B-42BB-8F4A-09B621BF5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44"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9047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8858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08DE-1DF9-4ED1-ADF4-A5F7450B4C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image" Target="../media/image2.jpeg"/><Relationship Id="rId6" Type="http://schemas.openxmlformats.org/officeDocument/2006/relationships/image" Target="../media/image8.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the CELDT?</a:t>
            </a:r>
            <a:endParaRPr b="0" lang="en-US" sz="4400" spc="-1" strike="noStrike">
              <a:solidFill>
                <a:srgbClr val="00295b"/>
              </a:solidFill>
              <a:latin typeface="Arial"/>
            </a:endParaRPr>
          </a:p>
        </p:txBody>
      </p:sp>
      <p:sp>
        <p:nvSpPr>
          <p:cNvPr id="9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fornia English Language Development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students who are English Learner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nitor progress in learning English</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cument English proficiency</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Beginning?</a:t>
            </a:r>
            <a:endParaRPr b="0" lang="en-US" sz="4400" spc="-1" strike="noStrike">
              <a:solidFill>
                <a:srgbClr val="00295b"/>
              </a:solidFill>
              <a:latin typeface="Arial"/>
            </a:endParaRPr>
          </a:p>
        </p:txBody>
      </p:sp>
      <p:sp>
        <p:nvSpPr>
          <p:cNvPr id="13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s a few detail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imple words and phrases with help</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disconnected words and uses memorized statements and questions </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Intermediate?</a:t>
            </a:r>
            <a:endParaRPr b="0" lang="en-US" sz="4400" spc="-1" strike="noStrike">
              <a:solidFill>
                <a:srgbClr val="00295b"/>
              </a:solidFill>
              <a:latin typeface="Arial"/>
            </a:endParaRPr>
          </a:p>
        </p:txBody>
      </p:sp>
      <p:sp>
        <p:nvSpPr>
          <p:cNvPr id="13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understands more detail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s with more easily to more communication with less errors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and writes in short phrases and memorized statements and questions</a:t>
            </a:r>
            <a:endParaRPr b="0" lang="en-US" sz="32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Intermediate?</a:t>
            </a:r>
            <a:endParaRPr b="0" lang="en-US" sz="4400" spc="-1" strike="noStrike">
              <a:solidFill>
                <a:srgbClr val="00295b"/>
              </a:solidFill>
              <a:latin typeface="Arial"/>
            </a:endParaRPr>
          </a:p>
        </p:txBody>
      </p:sp>
      <p:sp>
        <p:nvSpPr>
          <p:cNvPr id="13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understands more details and some higher level thinking in English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more with a variety of vocabulary with a reduced number of errors</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entences, paragraphs, and original statements and questions</a:t>
            </a:r>
            <a:endParaRPr b="0" lang="en-US" sz="2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Advanced?</a:t>
            </a:r>
            <a:endParaRPr b="0" lang="en-US" sz="4400" spc="-1" strike="noStrike">
              <a:solidFill>
                <a:srgbClr val="00295b"/>
              </a:solidFill>
              <a:latin typeface="Arial"/>
            </a:endParaRPr>
          </a:p>
        </p:txBody>
      </p:sp>
      <p:sp>
        <p:nvSpPr>
          <p:cNvPr id="13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summarizes most details and higher level thinking in English with some help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with a variety of academic and informal vocabulary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s in fully-developed paragraphs and compositions</a:t>
            </a:r>
            <a:endParaRPr b="0" lang="en-US" sz="32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Advanced?</a:t>
            </a:r>
            <a:endParaRPr b="0" lang="en-US" sz="4400" spc="-1" strike="noStrike">
              <a:solidFill>
                <a:srgbClr val="00295b"/>
              </a:solidFill>
              <a:latin typeface="Arial"/>
            </a:endParaRPr>
          </a:p>
        </p:txBody>
      </p:sp>
      <p:sp>
        <p:nvSpPr>
          <p:cNvPr id="13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summarizes details and higher level thinking in English in all classes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with a variety of academic and informal vocabulary appropriate for every situation</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s in fully-developed paragraphs and compositions, using appropriate content area vocabulary</a:t>
            </a:r>
            <a:endParaRPr b="0" lang="en-US" sz="2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redesignation?</a:t>
            </a:r>
            <a:endParaRPr b="0" lang="en-US" sz="4400" spc="-1" strike="noStrike">
              <a:solidFill>
                <a:srgbClr val="00295b"/>
              </a:solidFill>
              <a:latin typeface="Arial"/>
            </a:endParaRPr>
          </a:p>
        </p:txBody>
      </p:sp>
      <p:sp>
        <p:nvSpPr>
          <p:cNvPr id="14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no longer needs English language support, you are no longer called E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are known as an R-FEP (Redesignated--Fluent English Proficient)</a:t>
            </a:r>
            <a:endParaRPr b="0" lang="en-US" sz="32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438280" y="4114800"/>
            <a:ext cx="6400800" cy="2666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EL students</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heltered students (Beginning, Early Intermediate and Intermediate)</a:t>
            </a:r>
            <a:endParaRPr b="0" lang="en-US" sz="2800" spc="-1" strike="noStrike">
              <a:solidFill>
                <a:srgbClr val="000000"/>
              </a:solidFill>
              <a:latin typeface="Arial"/>
            </a:endParaRPr>
          </a:p>
        </p:txBody>
      </p:sp>
      <p:graphicFrame>
        <p:nvGraphicFramePr>
          <p:cNvPr id="142" name="Object 4"/>
          <p:cNvGraphicFramePr/>
          <p:nvPr/>
        </p:nvGraphicFramePr>
        <p:xfrm>
          <a:off x="2514600" y="304920"/>
          <a:ext cx="5410080" cy="3709800"/>
        </p:xfrm>
        <a:graphic>
          <a:graphicData uri="http://schemas.openxmlformats.org/presentationml/2006/ole">
            <p:oleObj progId="Excel.Sheet.12" r:id="rId4" spid="">
              <p:embed/>
              <p:pic>
                <p:nvPicPr>
                  <p:cNvPr id="143" name="Object 4" descr=""/>
                  <p:cNvPicPr/>
                  <p:nvPr/>
                </p:nvPicPr>
                <p:blipFill>
                  <a:blip r:embed="rId5"/>
                  <a:stretch/>
                </p:blipFill>
                <p:spPr>
                  <a:xfrm>
                    <a:off x="2514600" y="304920"/>
                    <a:ext cx="5410080" cy="3709800"/>
                  </a:xfrm>
                  <a:prstGeom prst="rect">
                    <a:avLst/>
                  </a:prstGeom>
                  <a:ln w="0">
                    <a:noFill/>
                  </a:ln>
                </p:spPr>
              </p:pic>
            </p:oleObj>
          </a:graphicData>
        </a:graphic>
      </p:graphicFrame>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 I get redesignated?</a:t>
            </a:r>
            <a:endParaRPr b="0" lang="en-US" sz="4400" spc="-1" strike="noStrike">
              <a:solidFill>
                <a:srgbClr val="00295b"/>
              </a:solidFill>
              <a:latin typeface="Arial"/>
            </a:endParaRPr>
          </a:p>
        </p:txBody>
      </p:sp>
      <p:sp>
        <p:nvSpPr>
          <p:cNvPr id="145" name="PlaceHolder 2"/>
          <p:cNvSpPr>
            <a:spLocks noGrp="1"/>
          </p:cNvSpPr>
          <p:nvPr>
            <p:ph/>
          </p:nvPr>
        </p:nvSpPr>
        <p:spPr>
          <a:xfrm>
            <a:off x="2285640" y="1676160"/>
            <a:ext cx="66294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Learners can be redesignated if:</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Early Advanced or Advanced on the CELDT overall.</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Basic or higher on the CST in English and math.</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intain a C or higher in core content classes (English, math, social science, science) for 2 consecutive semesters.</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THEIR PARENT AGREES.</a:t>
            </a:r>
            <a:endParaRPr b="0" lang="en-US" sz="2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happens after redesignation?</a:t>
            </a:r>
            <a:endParaRPr b="0" lang="en-US" sz="4400" spc="-1" strike="noStrike">
              <a:solidFill>
                <a:srgbClr val="00295b"/>
              </a:solidFill>
              <a:latin typeface="Arial"/>
            </a:endParaRPr>
          </a:p>
        </p:txBody>
      </p:sp>
      <p:sp>
        <p:nvSpPr>
          <p:cNvPr id="147"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do not take the CELD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eachers monitor your progress for 2 years to see if you still need support.</a:t>
            </a:r>
            <a:endParaRPr b="0" lang="en-US" sz="32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8377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o remember...</a:t>
            </a:r>
            <a:endParaRPr b="0" lang="en-US" sz="4400" spc="-1" strike="noStrike">
              <a:solidFill>
                <a:srgbClr val="00295b"/>
              </a:solidFill>
              <a:latin typeface="Arial"/>
            </a:endParaRPr>
          </a:p>
        </p:txBody>
      </p:sp>
      <p:sp>
        <p:nvSpPr>
          <p:cNvPr id="149" name="PlaceHolder 2"/>
          <p:cNvSpPr>
            <a:spLocks noGrp="1"/>
          </p:cNvSpPr>
          <p:nvPr>
            <p:ph type="subTitle"/>
          </p:nvPr>
        </p:nvSpPr>
        <p:spPr>
          <a:xfrm>
            <a:off x="2286000" y="24379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your best on the test!</a:t>
            </a:r>
            <a:endParaRPr b="0" lang="en-US" sz="3200" spc="-1" strike="noStrike">
              <a:solidFill>
                <a:srgbClr val="000000"/>
              </a:solidFill>
              <a:latin typeface="Arial"/>
            </a:endParaRP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es the CELDT help my  education?</a:t>
            </a:r>
            <a:endParaRPr b="0" lang="en-US" sz="4400" spc="-1" strike="noStrike">
              <a:solidFill>
                <a:srgbClr val="00295b"/>
              </a:solidFill>
              <a:latin typeface="Arial"/>
            </a:endParaRPr>
          </a:p>
        </p:txBody>
      </p:sp>
      <p:sp>
        <p:nvSpPr>
          <p:cNvPr id="9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teachers know your English strength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monstrates your yearly English growth.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ws how close your is to proficiency and redesignation.</a:t>
            </a:r>
            <a:endParaRPr b="0" lang="en-US" sz="3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s on the test?</a:t>
            </a:r>
            <a:endParaRPr b="0" lang="en-US" sz="4400" spc="-1" strike="noStrike">
              <a:solidFill>
                <a:srgbClr val="00295b"/>
              </a:solidFill>
              <a:latin typeface="Arial"/>
            </a:endParaRPr>
          </a:p>
        </p:txBody>
      </p:sp>
      <p:sp>
        <p:nvSpPr>
          <p:cNvPr id="9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Skill Areas</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ing</a:t>
            </a:r>
            <a:endParaRPr b="0" lang="en-US" sz="3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Reading</a:t>
            </a:r>
            <a:endParaRPr b="0" lang="en-US" sz="4400" spc="-1" strike="noStrike">
              <a:solidFill>
                <a:srgbClr val="00295b"/>
              </a:solidFill>
              <a:latin typeface="Arial"/>
            </a:endParaRPr>
          </a:p>
        </p:txBody>
      </p:sp>
      <p:sp>
        <p:nvSpPr>
          <p:cNvPr id="9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analysis </a:t>
            </a:r>
            <a:endParaRPr b="0" lang="en-US" sz="3200" spc="-1" strike="noStrike">
              <a:solidFill>
                <a:srgbClr val="000000"/>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English words created?</a:t>
            </a:r>
            <a:endParaRPr b="0" lang="en-US" sz="28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development</a:t>
            </a:r>
            <a:endParaRPr b="0" lang="en-US" sz="3200" spc="-1" strike="noStrike">
              <a:solidFill>
                <a:srgbClr val="000000"/>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word to use?</a:t>
            </a:r>
            <a:endParaRPr b="0" lang="en-US" sz="28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comprehension</a:t>
            </a:r>
            <a:endParaRPr b="0" lang="en-US" sz="3200" spc="-1" strike="noStrike">
              <a:solidFill>
                <a:srgbClr val="000000"/>
              </a:solidFill>
              <a:latin typeface="Arial"/>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n the story?</a:t>
            </a:r>
            <a:endParaRPr b="0" lang="en-US" sz="2800" spc="-1" strike="noStrike">
              <a:solidFill>
                <a:srgbClr val="000000"/>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ry response and analysis</a:t>
            </a:r>
            <a:endParaRPr b="0" lang="en-US" sz="3200" spc="-1" strike="noStrike">
              <a:solidFill>
                <a:srgbClr val="000000"/>
              </a:solidFill>
              <a:latin typeface="Arial"/>
            </a:endParaRPr>
          </a:p>
          <a:p>
            <a:pPr lvl="1" marL="743040" indent="-2858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is the story structured?</a:t>
            </a:r>
            <a:endParaRPr b="0" lang="en-US" sz="2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riting</a:t>
            </a:r>
            <a:endParaRPr b="0" lang="en-US" sz="4400" spc="-1" strike="noStrike">
              <a:solidFill>
                <a:srgbClr val="00295b"/>
              </a:solidFill>
              <a:latin typeface="Arial"/>
            </a:endParaRPr>
          </a:p>
        </p:txBody>
      </p:sp>
      <p:sp>
        <p:nvSpPr>
          <p:cNvPr id="10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 sentence, paragraph or essay created?</a:t>
            </a: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language conventions </a:t>
            </a:r>
            <a:endParaRPr b="0" lang="en-US" sz="32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rrect structure of senten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Listening</a:t>
            </a:r>
            <a:endParaRPr b="0" lang="en-US" sz="4400" spc="-1" strike="noStrike">
              <a:solidFill>
                <a:srgbClr val="00295b"/>
              </a:solidFill>
              <a:latin typeface="Arial"/>
            </a:endParaRPr>
          </a:p>
        </p:txBody>
      </p:sp>
      <p:sp>
        <p:nvSpPr>
          <p:cNvPr id="10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understand words, sentences and paragraphs?</a:t>
            </a:r>
            <a:endParaRPr b="0" lang="en-US" sz="2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peaking</a:t>
            </a:r>
            <a:endParaRPr b="0" lang="en-US" sz="4400" spc="-1" strike="noStrike">
              <a:solidFill>
                <a:srgbClr val="00295b"/>
              </a:solidFill>
              <a:latin typeface="Arial"/>
            </a:endParaRPr>
          </a:p>
        </p:txBody>
      </p:sp>
      <p:sp>
        <p:nvSpPr>
          <p:cNvPr id="10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peak using words, sentences and paragraphs?</a:t>
            </a:r>
            <a:endParaRPr b="0" lang="en-US" sz="2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can I prepare for the test?</a:t>
            </a:r>
            <a:endParaRPr b="0" lang="en-US" sz="4400" spc="-1" strike="noStrike">
              <a:solidFill>
                <a:srgbClr val="00295b"/>
              </a:solidFill>
              <a:latin typeface="Arial"/>
            </a:endParaRPr>
          </a:p>
        </p:txBody>
      </p:sp>
      <p:sp>
        <p:nvSpPr>
          <p:cNvPr id="10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nglish throughout the summer.</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write English using resources on the computer, at the library or on the televisio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importance of the test.</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361960" y="75960"/>
            <a:ext cx="609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95b"/>
                </a:solidFill>
                <a:latin typeface="Arial"/>
              </a:rPr>
              <a:t>What are the levels?</a:t>
            </a:r>
            <a:endParaRPr b="0" lang="en-US" sz="4800" spc="-1" strike="noStrike">
              <a:solidFill>
                <a:srgbClr val="00295b"/>
              </a:solidFill>
              <a:latin typeface="Arial"/>
            </a:endParaRPr>
          </a:p>
        </p:txBody>
      </p:sp>
      <p:grpSp>
        <p:nvGrpSpPr>
          <p:cNvPr id="108" name="Group 34"/>
          <p:cNvGrpSpPr/>
          <p:nvPr/>
        </p:nvGrpSpPr>
        <p:grpSpPr>
          <a:xfrm>
            <a:off x="2133720" y="1143000"/>
            <a:ext cx="7010280" cy="5390640"/>
            <a:chOff x="2133720" y="1143000"/>
            <a:chExt cx="7010280" cy="5390640"/>
          </a:xfrm>
        </p:grpSpPr>
        <p:grpSp>
          <p:nvGrpSpPr>
            <p:cNvPr id="109" name="Group 35"/>
            <p:cNvGrpSpPr/>
            <p:nvPr/>
          </p:nvGrpSpPr>
          <p:grpSpPr>
            <a:xfrm>
              <a:off x="2133720" y="1143000"/>
              <a:ext cx="7010280" cy="5390640"/>
              <a:chOff x="2133720" y="1143000"/>
              <a:chExt cx="7010280" cy="5390640"/>
            </a:xfrm>
          </p:grpSpPr>
          <p:grpSp>
            <p:nvGrpSpPr>
              <p:cNvPr id="110" name="Group 36"/>
              <p:cNvGrpSpPr/>
              <p:nvPr/>
            </p:nvGrpSpPr>
            <p:grpSpPr>
              <a:xfrm>
                <a:off x="2133720" y="1626840"/>
                <a:ext cx="1295280" cy="4587840"/>
                <a:chOff x="2133720" y="1626840"/>
                <a:chExt cx="1295280" cy="4587840"/>
              </a:xfrm>
            </p:grpSpPr>
            <p:sp>
              <p:nvSpPr>
                <p:cNvPr id="111" name="Rectangle 37"/>
                <p:cNvSpPr/>
                <p:nvPr/>
              </p:nvSpPr>
              <p:spPr>
                <a:xfrm>
                  <a:off x="2133720" y="162684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rigi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sp>
              <p:nvSpPr>
                <p:cNvPr id="112" name="AutoShape 38"/>
                <p:cNvSpPr/>
                <p:nvPr/>
              </p:nvSpPr>
              <p:spPr>
                <a:xfrm>
                  <a:off x="2438280" y="2201040"/>
                  <a:ext cx="577440" cy="3493440"/>
                </a:xfrm>
                <a:prstGeom prst="upArrow">
                  <a:avLst>
                    <a:gd name="adj1" fmla="val 40657"/>
                    <a:gd name="adj2" fmla="val 96602"/>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39"/>
                <p:cNvSpPr/>
                <p:nvPr/>
              </p:nvSpPr>
              <p:spPr>
                <a:xfrm>
                  <a:off x="2133720" y="569448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emor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grpSp>
          <p:grpSp>
            <p:nvGrpSpPr>
              <p:cNvPr id="114" name="Group 40"/>
              <p:cNvGrpSpPr/>
              <p:nvPr/>
            </p:nvGrpSpPr>
            <p:grpSpPr>
              <a:xfrm>
                <a:off x="7925040" y="1544400"/>
                <a:ext cx="1218960" cy="4650840"/>
                <a:chOff x="7925040" y="1544400"/>
                <a:chExt cx="1218960" cy="4650840"/>
              </a:xfrm>
            </p:grpSpPr>
            <p:sp>
              <p:nvSpPr>
                <p:cNvPr id="115" name="AutoShape 41"/>
                <p:cNvSpPr/>
                <p:nvPr/>
              </p:nvSpPr>
              <p:spPr>
                <a:xfrm>
                  <a:off x="8112240" y="2195640"/>
                  <a:ext cx="577800" cy="3493440"/>
                </a:xfrm>
                <a:prstGeom prst="upArrow">
                  <a:avLst>
                    <a:gd name="adj1" fmla="val 40657"/>
                    <a:gd name="adj2" fmla="val 9654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42"/>
                <p:cNvSpPr/>
                <p:nvPr/>
              </p:nvSpPr>
              <p:spPr>
                <a:xfrm>
                  <a:off x="7925040" y="154440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cadem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sp>
              <p:nvSpPr>
                <p:cNvPr id="117" name="Rectangle 43"/>
                <p:cNvSpPr/>
                <p:nvPr/>
              </p:nvSpPr>
              <p:spPr>
                <a:xfrm>
                  <a:off x="8001000" y="5675040"/>
                  <a:ext cx="114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oci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grpSp>
          <p:sp>
            <p:nvSpPr>
              <p:cNvPr id="118" name="AutoShape 44"/>
              <p:cNvSpPr/>
              <p:nvPr/>
            </p:nvSpPr>
            <p:spPr>
              <a:xfrm rot="10800000">
                <a:off x="3085920" y="1369080"/>
                <a:ext cx="5029200" cy="5164560"/>
              </a:xfrm>
              <a:prstGeom prst="triangle">
                <a:avLst>
                  <a:gd name="adj" fmla="val 5000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Text Box 45"/>
              <p:cNvSpPr/>
              <p:nvPr/>
            </p:nvSpPr>
            <p:spPr>
              <a:xfrm>
                <a:off x="4000320" y="1545120"/>
                <a:ext cx="3200400" cy="46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 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eginning</a:t>
                </a:r>
                <a:endParaRPr b="0" lang="en-US" sz="1200" spc="-1" strike="noStrike">
                  <a:solidFill>
                    <a:srgbClr val="000000"/>
                  </a:solidFill>
                  <a:latin typeface="Arial"/>
                </a:endParaRPr>
              </a:p>
            </p:txBody>
          </p:sp>
          <p:sp>
            <p:nvSpPr>
              <p:cNvPr id="120" name="Text Box 46"/>
              <p:cNvSpPr/>
              <p:nvPr/>
            </p:nvSpPr>
            <p:spPr>
              <a:xfrm>
                <a:off x="2971800" y="1143000"/>
                <a:ext cx="5143320" cy="28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istening          Speaking       Reading          Writing</a:t>
                </a:r>
                <a:endParaRPr b="0" lang="en-US" sz="1200" spc="-1" strike="noStrike">
                  <a:solidFill>
                    <a:srgbClr val="000000"/>
                  </a:solidFill>
                  <a:latin typeface="Arial"/>
                </a:endParaRPr>
              </a:p>
            </p:txBody>
          </p:sp>
          <p:sp>
            <p:nvSpPr>
              <p:cNvPr id="121" name="Line 47"/>
              <p:cNvSpPr/>
              <p:nvPr/>
            </p:nvSpPr>
            <p:spPr>
              <a:xfrm>
                <a:off x="3657600" y="2883960"/>
                <a:ext cx="3886200" cy="0"/>
              </a:xfrm>
              <a:prstGeom prst="line">
                <a:avLst/>
              </a:prstGeom>
              <a:ln w="123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Text Box 48"/>
              <p:cNvSpPr/>
              <p:nvPr/>
            </p:nvSpPr>
            <p:spPr>
              <a:xfrm>
                <a:off x="4228920" y="2759760"/>
                <a:ext cx="2743200" cy="335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Black"/>
                  </a:rPr>
                  <a:t>REDESIGNATION GOAL</a:t>
                </a:r>
                <a:endParaRPr b="0" lang="en-US" sz="1200" spc="-1" strike="noStrike">
                  <a:solidFill>
                    <a:srgbClr val="000000"/>
                  </a:solidFill>
                  <a:latin typeface="Arial"/>
                </a:endParaRPr>
              </a:p>
            </p:txBody>
          </p:sp>
        </p:grpSp>
        <p:sp>
          <p:nvSpPr>
            <p:cNvPr id="123" name="Line 49"/>
            <p:cNvSpPr/>
            <p:nvPr/>
          </p:nvSpPr>
          <p:spPr>
            <a:xfrm>
              <a:off x="3314520" y="20037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50"/>
            <p:cNvSpPr/>
            <p:nvPr/>
          </p:nvSpPr>
          <p:spPr>
            <a:xfrm>
              <a:off x="4457520" y="1353960"/>
              <a:ext cx="114300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51"/>
            <p:cNvSpPr/>
            <p:nvPr/>
          </p:nvSpPr>
          <p:spPr>
            <a:xfrm flipH="1">
              <a:off x="5600520" y="1353960"/>
              <a:ext cx="114264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52"/>
            <p:cNvSpPr/>
            <p:nvPr/>
          </p:nvSpPr>
          <p:spPr>
            <a:xfrm>
              <a:off x="5600520" y="1353960"/>
              <a:ext cx="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53"/>
            <p:cNvSpPr/>
            <p:nvPr/>
          </p:nvSpPr>
          <p:spPr>
            <a:xfrm>
              <a:off x="4686120" y="5275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54"/>
            <p:cNvSpPr/>
            <p:nvPr/>
          </p:nvSpPr>
          <p:spPr>
            <a:xfrm>
              <a:off x="4343400" y="4127400"/>
              <a:ext cx="26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36:51Z</dcterms:created>
  <dc:creator>Tech Resources</dc:creator>
  <dc:description/>
  <dc:language>en-US</dc:language>
  <cp:lastModifiedBy>nvasquez</cp:lastModifiedBy>
  <dcterms:modified xsi:type="dcterms:W3CDTF">2009-09-13T14:53:12Z</dcterms:modified>
  <cp:revision>9</cp:revision>
  <dc:subject/>
  <dc:title>What is the CELDT?</dc:title>
</cp:coreProperties>
</file>